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A78-8BCE-48FB-B25D-87E6B9B8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26F-BD51-45EC-B447-47052E48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915-0B67-4E09-B727-4D185FEA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9FD-0C0E-4E71-913C-6BC3FF77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28D-2FB8-48C0-8797-3382FAE9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99B-8CD7-49ED-BB52-AA330425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534-1ABC-4DD7-B6D1-7404115B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AB3-7389-4EBB-8805-D67B5C27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9DF-AE0D-4C9C-B3A7-13D8B16B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A9DD-0690-465B-9444-97517B81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5A1-8786-48A2-ABB8-EACF2D79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521-5BDF-48D3-BCAD-CE3029AC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8D89-E22B-494D-96C9-4C38F28404F3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29200" y="-152280"/>
            <a:ext cx="3935520" cy="11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 يسوع بيدعي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ـمـا يـســوع بـيـدعـيــك         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لبي نـداءو على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حلى لــقــاء بـــلاقـيـــك                 تيصير فرحك ع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ت كمان فيـك تكون قدي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Christ_Coptic-Album.Com" descr="رب المجد يسوع المسيح"/>
          <p:cNvPicPr/>
          <p:nvPr/>
        </p:nvPicPr>
        <p:blipFill>
          <a:blip r:embed="rId3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724280" y="307800"/>
            <a:ext cx="4240440" cy="10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سوع حاضر عــم يحك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يدي فــرصــة حــلـوي كت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خــلّـــي حــبــو يـكبر فيك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نـــت بـقـلـبـو تـصـير كـبــ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إنت كمان فيـك تكون قد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hrist_Coptic-Album.Com" descr="رب المجد يسوع المسيح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00600" y="307800"/>
            <a:ext cx="4164120" cy="10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سوع إلـك أحـلــى رفيق  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تـمـشــي مــعــو بــالــحـيا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ـــوي الـهـدف والطري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ــوى بـيـعـطـيــك الــحـيا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إنت كمان فيـك تكون قد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Christ_Coptic-Album.Com" descr="رب المجد يسوع المسيح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76920" y="-152280"/>
            <a:ext cx="4087800" cy="10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ـمـا يـســوع بـيـدعـيــك         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لبي نـداءو على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حلى لــقــاء بـــلاقـيـــك                 تيصير فرحك ع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ت كمان فيـك تكون قدي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hrist_Coptic-Album.Com" descr="رب المجد يسوع المسيح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1:48:05Z</dcterms:created>
  <dc:creator>user</dc:creator>
  <dc:description/>
  <dc:language>en-US</dc:language>
  <cp:lastModifiedBy>user</cp:lastModifiedBy>
  <dcterms:modified xsi:type="dcterms:W3CDTF">2006-05-05T05:42:29Z</dcterms:modified>
  <cp:revision>18</cp:revision>
  <dc:subject/>
  <dc:title>Slide 1</dc:title>
</cp:coreProperties>
</file>